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3D2-A949-46E6-A802-315D1355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E65-AC2A-4C5E-935F-37D62EC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60C-E849-4CFC-8F71-0F1815A9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128-6748-4ED1-BF76-F5056E44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937-3171-4801-AA3F-6ACD665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050-F438-42C9-9EB4-724F46E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4F0-06A6-483B-AB22-9FE3834F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2E-726B-497B-934B-5293246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F92-3406-4726-801A-FFA66D2F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A95-B478-46A2-967A-C12754E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93E-CE76-4BB7-B887-B5A0C73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93F-A5CE-403F-8249-E7EBB0A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0784-2AF8-43E4-88A0-0B8C7220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433440" y="-55440"/>
            <a:ext cx="6267600" cy="5273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334120" y="228600"/>
            <a:ext cx="3657600" cy="1465560"/>
          </a:xfrm>
          <a:prstGeom prst="rect">
            <a:avLst/>
          </a:prstGeom>
          <a:solidFill>
            <a:srgbClr val="558ed5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llection of technologies for automatically distributing audio and video programs over the internet.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dcas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the person who creates the cont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pc.png"/>
          <p:cNvPicPr/>
          <p:nvPr/>
        </p:nvPicPr>
        <p:blipFill>
          <a:blip r:embed="rId2"/>
          <a:stretch/>
        </p:blipFill>
        <p:spPr>
          <a:xfrm>
            <a:off x="6248520" y="3886200"/>
            <a:ext cx="2619360" cy="261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5410080" y="2819520"/>
            <a:ext cx="358164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 my IPod to listen to podcasts of my favorite radio sh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533520" y="4724280"/>
            <a:ext cx="5105160" cy="173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dcasts in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tudent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nterviews with guest speak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As a way for students that are absent to h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ctures and instruc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News and updates for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44:36Z</dcterms:created>
  <dc:creator>RRISD</dc:creator>
  <dc:description/>
  <dc:language>en-US</dc:language>
  <cp:lastModifiedBy>RRISD</cp:lastModifiedBy>
  <dcterms:modified xsi:type="dcterms:W3CDTF">2009-03-11T18:08:42Z</dcterms:modified>
  <cp:revision>3</cp:revision>
  <dc:subject/>
  <dc:title>Slide 1</dc:title>
</cp:coreProperties>
</file>